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A41-02B3-48A8-9459-BF58ABFA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19F-3DF0-408C-86C2-953D7489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F7BD2-91D0-47BC-944E-FBB5FEEC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064BA-93D4-408F-8280-8D849DCB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13FD6-11EE-4A94-9DC1-B95E9FA8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2F579-B666-4C68-986F-44C07D2F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2C935-7DD6-450C-9642-C75450C4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ECE81-70AB-4D0D-8C4E-8D4D569A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F81D7-3CFE-4315-8A32-7E9E2769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5439F-01FC-4F10-99DE-4C683866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35F00-3406-4BED-89DA-0F4424C6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C35BA-47C7-4807-859E-2AC5B05D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B46-93B4-434D-9C12-ECD1E11D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4DD89-39B9-49DF-BA4C-3F0BF969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43136-9778-4119-8D03-1B55D47A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49D25-8A36-4524-98AC-E16B2336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E2B23-1C5B-49CB-9848-BECF14C8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3A937-46DB-4C72-BD10-C1B6D28C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2792A-F974-46A9-BC95-7ACA24F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EF9CD-24CE-4BE9-9EE7-3749F29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BF104-5E78-4306-B3BE-A2FCF3AA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DFCF1-98A6-4813-8661-B70FF4E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4499F-3347-4AA6-A614-EA07DDF8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B42-65CE-47B2-BBD4-09DE6872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A06AC-0F67-4382-B4D4-82F796A0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F47EF-950A-4174-8E51-100EB506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7FA18-8469-438E-B6ED-CACA2EEA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E5189-6EE7-4A31-BF12-9A054F2D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24D53-596F-41DA-B788-29358D2B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08F5B-E11D-43AF-A390-53EE236B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C8379-3260-4751-9DC0-14561DF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49C53-380C-4BAF-8E77-48ACF5A7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B6503-442B-4F9E-A721-0ED77B6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336FE-28C3-49AF-85B7-CBF25A54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C393-3C5B-48C6-A668-B0EE4A83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64B9C-9468-4885-BD04-72312DEE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5927C-72AA-4551-9DB4-FC695499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570AB-C59D-4435-845A-10E5A2F0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DB0E8-49F8-4011-A5E3-EE6D98DC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9C0A1-085D-46A3-8DD4-F4EB6488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F42A0-6911-4EC0-9995-0ECC106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0F4F6-A8D8-4EF9-BCE5-B6730A32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20B5F-B0D4-49B1-8DFE-AB37B612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E0F50-AD6F-4964-AA39-5AB131EA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9B08A-5DDA-4021-A1B7-8B442DC9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F4D3-52B2-41E8-B160-8BEDE64E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0ED4F-4AE8-4220-A2C0-B7F1E7FB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6FC48-D364-4B84-A7E6-2E42131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CB5A2-57FD-4C70-8C81-EE2B0070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279A9-EA48-4178-976B-89F3B8B1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A5DC2-46EE-4396-84A8-DCA37DB8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C28A2-1277-4760-B446-6D420AD3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D3651-675B-44FB-B437-911831E9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D2221-F848-405A-A626-32E90DAC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66E49-1F70-4F0F-9BD4-8D1B3BD0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18460-87B0-46B5-9366-E2EF4BE4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2E3E-A367-4A8E-9C59-DD06A349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1AA06-D75A-41C7-BE33-2B96D229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02625-A873-48A8-871F-23208EF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74713-086E-4B64-A672-CF008C9F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23165-8DB6-43AC-A1C4-00A4102B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8703F-D6C4-48C1-BC3B-2B9D7961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B58A9-86D1-41B0-BF6C-1B79D176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38BD2-681B-4948-86F1-14C7404E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7BC67-B498-48BB-A4A3-0BB7A1E6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9255F-F0FA-43E7-BB97-35C39BA3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19A7E-E3B3-4355-9B9D-6DEAB400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7828-70E9-4C30-8AC6-65EF8F4D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9543D-0A9B-47A1-A8AB-14F71D65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33DFF-11BC-4CB9-BE61-2B3047B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9B108-252C-4E66-87D5-3E1FE8CB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69784-5F91-4131-8E77-CF2193A8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BF8F0-4C53-45EE-93B5-8618A5D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0AB71-10A3-461B-817A-018A0FDF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55BBC-0A94-43E7-88B2-9025D6C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6D87D-178F-4AA3-B870-0B316F3D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0DEE5-8CED-4DB6-8E12-B96495DD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D2915-1BA0-46D1-88F2-1A877330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F65F-0019-4CE2-B461-A3AC3943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5D62F-731D-42AB-809F-2DEEEBCD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097F9-C54C-4D0F-8AB1-5FB906E9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16872-15CD-41EB-BC4B-E74CF973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32D90-AA3E-4FF0-BD69-661A0736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E42D6-4F7F-4025-A340-07BB4280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F7869-4AD0-41CB-87C4-C566F1A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A93E8-D8FD-44AE-93EC-985135E1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DDA21-BAC3-4B1C-9CD0-54680B2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AB656-4041-4A99-8FDC-0BA5D78B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599E9-5635-41E1-A9E3-5BC462AA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E138-E282-4137-8DE8-41ED7E2B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0B72B-C7E0-46FA-9F00-1D4034FB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4A25B-8369-420E-B1F1-66710D82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46E1A-0460-4EE4-9626-F80BB108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A5309-66EF-4BD2-BEAB-D0CCA25D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43F48-F156-4FEB-91FB-A26FE0E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09F1F-6787-435C-AA62-A1FC889B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CE832-EBE4-4C89-B914-541F0806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EFC09-76C6-489C-8DD8-15588F9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6B8BA-D8AF-4A3B-8796-9A2D1673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351FE-26DA-424F-BDBB-7E1A8877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B700-C675-4E7D-AA0E-2CFCE2A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06363-13A8-40C8-B327-DEE50D88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4F940-9874-4858-9E2D-2435F2D8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4B69C-2C4A-4BCA-96FE-CB644645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872D6-B4B8-42CC-A1A3-B4507103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29EBC-36A2-4839-A543-20679503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95780B-4D45-45F2-83AF-5AF21F1A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58016-FE57-4A64-A499-55438826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7635F-D3C9-4BC4-807F-0C7DE479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C7BBA-7550-4E90-9510-C0AD9DF7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FEB4A-F063-4B06-A1A3-9438DEC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BE9-6DF6-409B-89CA-342F727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D76F-AD63-4256-AA9D-DE69A06F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270CA-E844-40C4-9516-20686DCA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F2313-937B-46E5-AF8E-58ADF76B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E1BBD-3412-41D9-AB46-8D4EC1C2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E76A3-D3E7-4D55-870D-A46D5CCD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CE0B1-4751-49F3-BF56-E8FAF218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598A1D-B923-4A31-90DA-F4AABB9F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64B4A-C75B-45F9-9D5A-CC6D75C3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B228C-F837-44FE-A75A-518D9F64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6CF9E-C05B-4AC4-BE24-A93A8009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7452D-27FE-4B97-B5E7-44993193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A4D0-6317-4892-B17D-9CE8D297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63D56-4303-4D13-A012-E07BFEDB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B9AFC-252D-45F4-9E4A-13350A7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F521F-EE76-4CE7-BEB8-ACC67912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CBC17-8DEE-48D8-B869-424795B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18C94-B642-442B-8148-5022162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697DD-3468-45BA-9A84-2074E6C6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36D91-D7AD-4EC1-9CD0-5FF5AB53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6BBA56-AFD0-4088-A514-82EC34E9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9813E4-BCC1-4094-A943-2C31617C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3B3E6-60C5-45B1-A0E2-0CE3EE2B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61A4-FCAC-484F-BDC9-A0B98DBB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7D620C-CBC2-4789-B26F-DC96442F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EB303-ED34-4E13-91B9-7E3A80B0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6BDA1-BE7D-4862-A3D7-B1069460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152A6A-4993-4E0F-B6CD-8E40E37A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64495-5CDE-4FB4-B72C-DE12D52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6CC90-D983-42BA-8872-38A7B737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3F84A-5781-4443-9C22-C6D076AA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01DF1C-8F72-4E6C-B98A-7F1B1C48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6AC69-C59F-499E-B25E-AFDBF9A7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45D006-1CBF-4691-A5C3-4A243E8C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C1A7-13C3-42E6-A754-CFE86A97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3582D-62B1-477D-987A-C4FC20C8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204C6-774C-4E71-94D4-BE08568F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4CC8F-6669-4BF8-9EB5-EA316F19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0C624-35EE-4E0B-9654-0682E76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059E6-CA99-4083-A62A-AEA358E2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47A5E-8E5D-4FDA-9CC6-BD85F66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8FB64-2681-483E-B6CE-23939E79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2156F-3DE5-4A83-8B71-8118CF5A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7C237-14AA-4727-A629-A5B83151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E43AA-9A84-442D-8133-4D88DBF5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B08B-75F0-4D91-B34A-C3C922A2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99167-2807-41D9-B080-75191B76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6A913-E162-48A5-A2FD-2F2D9942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D8D688-BDFE-44D1-AFEE-A687DBB2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01792-7E76-4C35-90CE-D119C12D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E65B5D-4F90-4347-B199-26EE1D6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444BE-36E0-4185-99A7-4ECD3667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71BB34-B08D-4133-B679-86254317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C8FD1-B45C-4A01-8BB4-C85E46C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8A74C7-BA39-40AD-9425-D50462E1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3DC6E5-92DD-44BD-A9E0-B59B4B43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E210-D04A-413A-8B33-A33AB395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1A38F-B7CD-4483-8D34-E746B057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318A17-6DD9-4ECA-B8B1-01AD09A7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35D15-8535-4062-9DEB-34FAA6DC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76B3-8331-4E6A-AF9E-20BBF6AA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DECA-4228-405F-AF7C-8ED921E9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4D49-A218-4385-ADF8-33E042BD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1DA1-EA46-412F-A457-772FE653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43E-CF64-4269-A393-E31F73C8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1DAC-1FA7-4BC4-8D8B-3630EB79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5D8E-A47D-4605-8239-E31FF512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CA3B5-908E-4ACF-AF0F-DDFE982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D82E-8F3D-4A13-9390-B9D973F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0B19-407A-4248-A8D7-E242AC30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8707-5E5F-489F-9254-AD32757A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7487-9133-4BBC-AF55-1122E4CC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5CC9-A753-419D-9AA1-F41CCF49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4642C-6C67-40BE-B7D2-9E876469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C251-1C70-404C-BF51-D92A7FD9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729-DC40-4F06-B6A7-75F0073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9FD6-97F1-4A96-A0DB-AFD7E951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D61D-44E2-4945-BBD5-D5A880D8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4FBB-C4AC-42EE-9F90-E30BF7EA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6D3D-DDE8-4986-B6E7-FB803700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0CF77-EC17-4D72-B0D4-5B271E1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BD42-2C8F-4801-B19A-B058D3F7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DC4D-F6C1-4F34-810F-31F39DE9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5BCF-AFBF-4D4A-8FD8-3B8A565A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F2599-42D8-47D6-A584-B7D4C78E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A785-BA12-431D-86F0-691050EA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E89-3B6D-44A1-A1D4-4C510C77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9411C-6F8E-4B2C-9CE8-5E22622A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2AE3-4327-40A0-9853-94A656E0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76429-45BA-481A-9F61-F3B47179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56D45-2443-4410-B1C9-A422BC6E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9FA4-EAC7-4F06-892B-272164E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73D9-1B0D-45DF-B70E-03EE0E40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2414-534A-49D1-B9E2-51FC1E3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0ED3-36EF-43EB-8414-E684C0BB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C96D-539D-46E0-9DE0-2CDF8E29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298E-8B8D-465A-84EE-D948510E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03F-D715-4342-A412-A7F648C5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124A-16DC-4DEB-BF57-C884697C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79418-8071-4CBA-AB08-488E5D12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D43E6-1230-4E54-A69B-AED2E2E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33EC3-94B5-477E-9B5D-229F3A60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A0931-6021-44E3-AA89-91178208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340D-954A-49B5-8112-387FB2D2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EA61-0B03-467B-AC63-2F9970BC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92CB1-3B16-432B-B25A-F9E4F9FD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1C88-0F4F-4BBA-BCBA-8C13A7FF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F290-2E12-432A-B5DF-22B2FF4B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B1E-220A-4C20-9434-0A6577FC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1394-7C6A-4B4A-82B2-652763F4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60B63-BECF-406D-B9C8-919EC22C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D004B-669F-43B1-A287-E6FD4F87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7AA04-C111-4FAC-BDB1-44F07FE0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CE3B9-79C5-4557-AC6A-54F0038C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84D65-9448-4CF9-B63C-675E7EE5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D2635-7709-4EAE-B3AB-AC6EA668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FDB9C-5103-4CBC-A85A-E279C7EB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91683-8AE6-4566-BBF8-F0FFBEDE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3CF3-3798-4F67-BD05-74933427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78C-C4E4-40AA-9314-5E4838EE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3868C-DF90-4F43-8757-EF47F26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D78BE-6035-420A-876A-1CF735EF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7092-90CC-4793-BF74-B6B6B83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C8874-52CD-4D13-933F-261F8EA7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A81C4-4FD7-4D07-9B42-E8E74FB4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99E22-856C-40F0-81FA-0BC48054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42C70-FED5-4527-9EB9-7EE05FFB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77ACA-8792-470C-97B8-3B931B56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F0413-1645-4149-8132-95F395D7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29F40-D459-4858-B5E4-D583214C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6E1-79EA-47FC-93FE-C277515D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F1F03-F8AB-4904-BDE8-8312302E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09B02-4F02-4A92-80DD-697B855B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93DB2-60E5-4F84-BC37-3CA5E1FD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1AE1-2B17-4564-9D6D-28200BC9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BD576-812D-4692-AFBB-78A41257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6C995-45B7-44B4-82F7-43DEF3A4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D0CDA-9967-4317-A70A-C7F33156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16E78-2145-447C-9423-B9E90B6F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10A87-791D-474C-B474-43705C03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04BF6-C031-43C4-9DCE-3F46982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635F-654C-4491-B754-C0F368101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6B34-B3FC-40EC-BC99-205888DDF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8072-C7F8-45FA-A325-4C5C7DFC8A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51B3-FE5B-4A69-AEAC-2A71323FF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F809-A412-4684-BEF8-CFA55167F9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C764-7DA5-46C0-BFFE-D5FD803A0E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A43A-22C0-4B3E-A40B-EB05CA607A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3A4E-F7DB-40FA-8946-A1ED17FDE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22EB-93E5-42F4-A469-C5B20BB24C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1693-C5C8-42DA-AE0F-C49362309E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FEA6-0DAC-4879-BD73-56B33492C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3320-386B-4A3F-946B-C1DBF2DBFC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6562-CD9A-408C-B9FB-A4465D67D9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8AC3-776F-4097-994D-97E9F7E21C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2089-1248-4A49-9406-7DBA887A5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2B93-56A5-4199-9A19-08CDC251E4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BFBF-0BE0-4904-9D14-7B91577992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749E-6C74-4861-A6D5-00A8DAC07D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240C-842F-47F0-B2DF-B889CDE75D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D1FA-FB0D-4B9E-9425-3C400FA28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6B5D-725C-457B-A4D9-91C2AD6D48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EEDD-0ACD-4563-9697-5BBD4B9E5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59EB-F379-4D51-BC69-99F1850EE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6E0-7C32-46CC-A9BC-05F6069F1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2732-8284-4EBF-944A-B2C8300AF0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5A4B-44CD-4B48-820B-4FBA9BD624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B837-B68B-4E2E-8A78-6615C8DA2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44B8-1878-456D-97A2-B95074B8D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F4EE-BC98-4194-9BB1-E85052C4F0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0565-7569-4EC8-BB04-E60D0DAFBF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F4E4-06CC-49AB-A977-ABF3A79B7D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2DBC-8C25-4F7D-A897-4AD80849B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14F5-5C23-4AFF-9844-EB5D94964C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F537-3C05-4CE0-AE90-648557593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7037-18CC-4317-9641-D247029CE1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A1C3-9D43-4370-9223-21E541B115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2DBA-509A-490E-B56F-9798671AD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326-4E25-492A-83B8-A8EF6D81BF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463A-0425-42C4-A39F-4832A6F14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C177-1FD0-4526-B160-872D1224AE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90440" y="3043080"/>
            <a:ext cx="6963120" cy="7718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119400" y="4240080"/>
            <a:ext cx="3160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2"/>
          <a:stretch/>
        </p:blipFill>
        <p:spPr>
          <a:xfrm>
            <a:off x="347760" y="1752480"/>
            <a:ext cx="8448480" cy="3353040"/>
          </a:xfrm>
          <a:prstGeom prst="rect">
            <a:avLst/>
          </a:prstGeom>
          <a:ln w="0">
            <a:noFill/>
          </a:ln>
        </p:spPr>
      </p:pic>
      <p:sp>
        <p:nvSpPr>
          <p:cNvPr id="1030" name="直接连接符 4101"/>
          <p:cNvSpPr/>
          <p:nvPr/>
        </p:nvSpPr>
        <p:spPr>
          <a:xfrm>
            <a:off x="2627280" y="2852640"/>
            <a:ext cx="1081080" cy="1081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4102"/>
          <p:cNvSpPr/>
          <p:nvPr/>
        </p:nvSpPr>
        <p:spPr>
          <a:xfrm>
            <a:off x="2584440" y="4508640"/>
            <a:ext cx="1079640" cy="72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4103"/>
          <p:cNvSpPr/>
          <p:nvPr/>
        </p:nvSpPr>
        <p:spPr>
          <a:xfrm flipV="1">
            <a:off x="6156360" y="2997000"/>
            <a:ext cx="1511280" cy="431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4"/>
          <p:cNvSpPr/>
          <p:nvPr/>
        </p:nvSpPr>
        <p:spPr>
          <a:xfrm>
            <a:off x="5364000" y="2867040"/>
            <a:ext cx="2232360" cy="993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09440" y="890640"/>
            <a:ext cx="8923320" cy="5076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619280" y="3011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5940360" y="30114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7956720" y="3068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57240" y="836640"/>
            <a:ext cx="9029520" cy="56656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817236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101080" y="422100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8101080" y="56037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352440" y="1976400"/>
            <a:ext cx="8439120" cy="29052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6300720" y="38466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7:06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